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B86-358F-4536-8C0B-31FC79E2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3DD-7E53-4B2B-A896-D06A423D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D71-3339-4EF2-9600-AA4BD6DE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214-6D5E-4766-BD9C-B7D516F2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110-7174-4091-9384-A7E7BC7D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7A1-51E5-40A5-96B0-40056DE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BD9-6117-4AAB-A994-6A32538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1F2-69F8-4572-A0D2-0D9807B3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B01-20A0-47D9-A4F6-E16B7771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EA1-FEA0-4755-817B-53F942B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87D-0EC0-4406-BBCD-5AD53E08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15A-9308-4A31-8C04-54D005F3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B846-8C5F-4C0F-96D2-E09A85713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Go in pe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refreshed and renew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the eternal love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8:04Z</dcterms:created>
  <dc:creator>Anon Anon</dc:creator>
  <dc:description/>
  <dc:language>en-US</dc:language>
  <cp:lastModifiedBy>Anon Anon</cp:lastModifiedBy>
  <dcterms:modified xsi:type="dcterms:W3CDTF">2005-08-09T05:27:48Z</dcterms:modified>
  <cp:revision>7</cp:revision>
  <dc:subject/>
  <dc:title>PowerPoint Presentation</dc:title>
</cp:coreProperties>
</file>